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BF4-E59C-4E69-84BA-27D078E9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84C-E052-47E1-ACE9-CC499F8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5F6-F060-4C8E-B619-B43B947C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150-91DF-493F-A21F-6AF3204C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261-B06E-48D8-A30A-F52D7CE0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2DA-1D2C-43C7-AAA8-EBF1424C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BCD-AE70-4824-8F50-103E433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81D-9E67-488E-A64B-DBDE34F3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184-73B7-42C5-AF87-D850B92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784-F7AF-4699-A647-A8D5BB7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84D-AE0A-4498-899A-B22D046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308-1FA8-46B9-A0F8-E8C2123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92D-EB19-4139-A090-3937346B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1280" y="4984920"/>
            <a:ext cx="7173720" cy="749160"/>
            <a:chOff x="611280" y="4984920"/>
            <a:chExt cx="7173720" cy="749160"/>
          </a:xfrm>
        </p:grpSpPr>
        <p:sp>
          <p:nvSpPr>
            <p:cNvPr id="43" name=""/>
            <p:cNvSpPr txBox="1"/>
            <p:nvPr/>
          </p:nvSpPr>
          <p:spPr>
            <a:xfrm>
              <a:off x="898560" y="5157720"/>
              <a:ext cx="688644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раят на милениума и      трашният съд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11280" y="5057640"/>
              <a:ext cx="3715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959360" y="4984920"/>
              <a:ext cx="29520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С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47640" y="855720"/>
            <a:ext cx="1924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киил 38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1982880"/>
            <a:ext cx="29530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ака казва Госпо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еова: Ето, Аз съ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тив тебе, Гог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яже на Рос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сох и Тувал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38360" y="2048040"/>
            <a:ext cx="35524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идях и светия град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вия Ерусалим,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иза из небето от Бо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вен като невес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красена за мъж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332240" y="835200"/>
            <a:ext cx="1895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хария 14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935440" y="1379520"/>
            <a:ext cx="6180120" cy="5014800"/>
            <a:chOff x="2935440" y="1379520"/>
            <a:chExt cx="6180120" cy="5014800"/>
          </a:xfrm>
        </p:grpSpPr>
        <p:sp>
          <p:nvSpPr>
            <p:cNvPr id="87" name=""/>
            <p:cNvSpPr txBox="1"/>
            <p:nvPr/>
          </p:nvSpPr>
          <p:spPr>
            <a:xfrm>
              <a:off x="2935440" y="1379520"/>
              <a:ext cx="2923920" cy="25336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В оня ден нозет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Му ще застанат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Елеонския хълм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йто е срещу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Ерусалим на изток;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Елеонският хълм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е разцепи през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219640" y="3716280"/>
              <a:ext cx="3895920" cy="2678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редата си към изток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към запад, така ч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е образува твърд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голям дол, ка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ловината от хълм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е оттегли към север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половината му към юг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332240" y="835200"/>
            <a:ext cx="1895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хария 14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92360" y="1906560"/>
            <a:ext cx="7223040" cy="3313080"/>
            <a:chOff x="1692360" y="1906560"/>
            <a:chExt cx="7223040" cy="3313080"/>
          </a:xfrm>
        </p:grpSpPr>
        <p:sp>
          <p:nvSpPr>
            <p:cNvPr id="92" name=""/>
            <p:cNvSpPr txBox="1"/>
            <p:nvPr/>
          </p:nvSpPr>
          <p:spPr>
            <a:xfrm>
              <a:off x="1692360" y="1906560"/>
              <a:ext cx="411480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И ще побегнете през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оя дол на Моите хълмов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щото долът на хълмовет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тига до Асал;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а! ще побегнете как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5219640" y="3481560"/>
              <a:ext cx="3695760" cy="1738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бягнахте от земетръс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 дните на Юдовия цар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зия. И Господ мой Бог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дойде, - и всичкит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вети ангели с Тебе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332240" y="835200"/>
            <a:ext cx="1895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хария 14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16360" y="2060640"/>
            <a:ext cx="359100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оспод ще бъде цар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ху целия свят; В он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н Господ ще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дин, и името Му едн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00000" y="115920"/>
            <a:ext cx="23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 Уайт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19640" y="6199200"/>
            <a:ext cx="3152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 Великата борба "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927000"/>
            <a:ext cx="4897440" cy="4950000"/>
            <a:chOff x="250920" y="927000"/>
            <a:chExt cx="4897440" cy="4950000"/>
          </a:xfrm>
        </p:grpSpPr>
        <p:sp>
          <p:nvSpPr>
            <p:cNvPr id="101" name=""/>
            <p:cNvSpPr txBox="1"/>
            <p:nvPr/>
          </p:nvSpPr>
          <p:spPr>
            <a:xfrm>
              <a:off x="250920" y="927000"/>
              <a:ext cx="4591080" cy="188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Докато слиза в страшно величие,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Христос заповядва на безбожнит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мъртви да станат от гробовете си,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 да получат присъдата си. Какъв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нтраст с ония, които бях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ъзкръснали при първот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52360" y="2924280"/>
              <a:ext cx="4896000" cy="19461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ъзкресение! Праведните бях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блечени в безсмъртна младост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красота; безбожните носят следит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болестта и смъртта... Когат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овият Ерусалим в своя ослепителен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блясък слезе от небето, той с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0920" y="4986360"/>
              <a:ext cx="4895640" cy="890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установява на очистено и приготвен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място и Христос, народът Му и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ангелите влизат в светия град. "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3440" y="2048040"/>
            <a:ext cx="356220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лед това видях еди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ям бял престол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нзи, Който сед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него, от Чието лиц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бягнаха земят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то, че не се наме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ясто за тях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4000" y="2048040"/>
            <a:ext cx="4352760" cy="3044520"/>
            <a:chOff x="324000" y="2048040"/>
            <a:chExt cx="4352760" cy="3044520"/>
          </a:xfrm>
        </p:grpSpPr>
        <p:sp>
          <p:nvSpPr>
            <p:cNvPr id="112" name=""/>
            <p:cNvSpPr txBox="1"/>
            <p:nvPr/>
          </p:nvSpPr>
          <p:spPr>
            <a:xfrm>
              <a:off x="324000" y="2048040"/>
              <a:ext cx="4352760" cy="1447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Видях и мъртвите големи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малки, стоящи пред престол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едни книги се разгънах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разгъна се и друга книга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24000" y="3645000"/>
              <a:ext cx="3943080" cy="1447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ято е книгата на живота;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мъртвите бидоха съден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поред делата си п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писаното в книгите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360" y="260280"/>
            <a:ext cx="208764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2924280"/>
            <a:ext cx="208764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5157720"/>
            <a:ext cx="2087640" cy="14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24360" y="5589720"/>
            <a:ext cx="11430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НЕС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1700280"/>
            <a:ext cx="0" cy="1224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4365720"/>
            <a:ext cx="0" cy="792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48360" y="2178000"/>
            <a:ext cx="221436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000 - 5000 год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19640" y="4726080"/>
            <a:ext cx="1728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~ 2000 год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836640"/>
            <a:ext cx="274320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творение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3500280"/>
            <a:ext cx="2031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3440" y="2048040"/>
            <a:ext cx="3990960" cy="25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морето преда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ъртвите, които бяха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; и смъртта и адъ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адоха мъртвите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в тях; и те бидо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дени всеки спо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лат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3440" y="2048040"/>
            <a:ext cx="36194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мъртта и адъ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доха хвърлени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гненото езеро. Това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съдата за в огнен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ро е втората смър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3440" y="2048040"/>
            <a:ext cx="28382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ако някой не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мери записан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игата на живо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й биде хвърлен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гненото езер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900000" y="115920"/>
            <a:ext cx="23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 Уайт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19640" y="6199200"/>
            <a:ext cx="3152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 Великата борба "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8360" y="1693800"/>
            <a:ext cx="4514760" cy="3247560"/>
            <a:chOff x="468360" y="1693800"/>
            <a:chExt cx="4514760" cy="3247560"/>
          </a:xfrm>
        </p:grpSpPr>
        <p:sp>
          <p:nvSpPr>
            <p:cNvPr id="127" name=""/>
            <p:cNvSpPr txBox="1"/>
            <p:nvPr/>
          </p:nvSpPr>
          <p:spPr>
            <a:xfrm>
              <a:off x="468360" y="1693800"/>
              <a:ext cx="4333680" cy="1571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Но сега Исус отново се явяв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ред лицето на неприятелите Си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исоко над града, върху основ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 блестящо злато се издиг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68360" y="3493800"/>
              <a:ext cx="4514760" cy="1447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еличествен и възвишен трон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този трон седи Божия Син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обиколен от поданицит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Своето царство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684600" y="8161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64000" y="2060640"/>
            <a:ext cx="3248280" cy="361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ееха песен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я слуга Моисе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есента на Агн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йки: Велик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удесни са Тво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ла, Господи Бож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огъщи; правед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истинни са Тво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тища, Царю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кове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258920" y="2997360"/>
            <a:ext cx="2600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 Коринтяни 15:26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59280" y="4076640"/>
            <a:ext cx="267660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мъртт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й-последен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раг, и тя ще бъде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нищожена! "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00000" y="115920"/>
            <a:ext cx="23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 Уайт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219640" y="6199200"/>
            <a:ext cx="3152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 Великата борба "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9640" y="1484280"/>
            <a:ext cx="4438800" cy="3610080"/>
            <a:chOff x="539640" y="1484280"/>
            <a:chExt cx="4438800" cy="3610080"/>
          </a:xfrm>
        </p:grpSpPr>
        <p:sp>
          <p:nvSpPr>
            <p:cNvPr id="141" name=""/>
            <p:cNvSpPr txBox="1"/>
            <p:nvPr/>
          </p:nvSpPr>
          <p:spPr>
            <a:xfrm>
              <a:off x="539640" y="1484280"/>
              <a:ext cx="443880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Великата борба е свършена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яма вече грях и грешници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Цялата вселена е чиста..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 най-мъничкия атом д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й-големия свят, всичк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39640" y="3429000"/>
              <a:ext cx="4334040" cy="1665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еща, одушевени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еудушевени, в непомраче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расота и съвърше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радост заявяват: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'Бог е любов'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332000" y="765000"/>
            <a:ext cx="1419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оан 5:2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8480" y="3213000"/>
            <a:ext cx="411480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стина, истина ви казва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слуша Моето учени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вярва в Този, Който Ме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атил, има вечен живот,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 да дойде на съд, но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минал от смъртта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о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63640" y="476280"/>
            <a:ext cx="56833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empus Sans ITC"/>
              </a:rPr>
              <a:t>100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4221000"/>
            <a:ext cx="835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Милениумъ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908000" y="836640"/>
            <a:ext cx="2352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13 мар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7280" y="2349360"/>
            <a:ext cx="266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ово неб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ова зем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908000" y="145080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47640" y="2421000"/>
            <a:ext cx="338148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когато се свърш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илядата години,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тана ще бъде пусн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тъмницат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8000" y="145080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47640" y="2421000"/>
            <a:ext cx="337212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ще излезе да мам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ите в четир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аища на земя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га и Магога, да г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бере за войната,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ето число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морския пясък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08000" y="145080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47640" y="2421000"/>
            <a:ext cx="383868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е се разпростря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 цялата широчи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земята и обиколи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а на светиит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ичния град; но огъ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дна от [Бога из] неб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 ги изпояд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8000" y="1450800"/>
            <a:ext cx="2571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7640" y="2421000"/>
            <a:ext cx="376272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яволът, който г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меше, биде хвърл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огненото жупел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ро, гдето са и звяръ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лъжепророкът; 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ъдат мъчени денем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щем до вечни веков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547640" y="855720"/>
            <a:ext cx="1924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киил 38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6920" y="1982880"/>
            <a:ext cx="247680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И Господн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ово дойде къ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не и рече: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47640" y="855720"/>
            <a:ext cx="1924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киил 38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640" y="1982880"/>
            <a:ext cx="386712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ине човешки, насоч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ицето си към Гога,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 на Маго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яза на Рос, Мосох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увал, и пророкувай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тив него, като речеш: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0:31:25Z</dcterms:created>
  <dc:creator>The Mind</dc:creator>
  <dc:description/>
  <dc:language>en-US</dc:language>
  <cp:lastModifiedBy>Vlady</cp:lastModifiedBy>
  <dcterms:modified xsi:type="dcterms:W3CDTF">2005-03-06T16:56:10Z</dcterms:modified>
  <cp:revision>11</cp:revision>
  <dc:subject/>
  <dc:title>Slide 1</dc:title>
</cp:coreProperties>
</file>